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C7F-0C19-4DB0-8059-A9997335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BBC-6D08-4404-8D1D-F260C3B2AFB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FC1-A3D6-40BA-8DFF-541ADE9D433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FCA-195B-4913-8BF0-AD133998AEE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3333-DDED-41E1-ADD4-81D66BB214A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DFB-CA03-4606-9CFF-2B71BA331F0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4A7-F7E4-4AC2-A390-A4B70CED491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1B39-82E4-4CD8-A72E-39D85D1F39F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616-9FEF-499F-A3CA-CCA3C3D48BC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51F8-1273-4408-B09B-82706508098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775-FA20-418A-834B-DEF7A77CA3B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146-AA3C-45AE-A21E-D80C619D717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6BA-0403-4196-943D-5204BCA98AF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7F2-3AF7-4292-99B5-CFE8A4ABDF6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1F8-F66C-43E1-8893-ABD736898C7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B248-3159-4972-91E3-F5E07E45378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7616-C5EF-4D59-96F1-9F381B3EC58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222C-53DE-4C93-BE42-9803C816C3B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D88-7E10-4E8D-AC6E-C5F052D2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CE9-E4BC-4AE8-ADDD-F9CC6F2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555-5088-4922-B058-60BDD91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C0B-AB1E-4786-AD3A-2BF2165B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FFCE-8730-4788-8713-BDF9699A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B5F-90CD-47D6-B401-0A5A103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05DD-2D84-48D6-96FB-4719F67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190-1A5E-4038-AD44-743BEC2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51DE-36DE-4001-B4CD-8BE31C5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02A-E5AA-4EE0-9294-FE0F6C6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2398-8826-48BE-BDE5-EDFBF38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CC4-CBAE-421F-AE6B-9B54696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BEB-8E24-4D13-83D0-9FA7E052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B21A-32C6-427A-9622-9747612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DB9-4914-48F3-B00E-D8AD819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4E0-9626-44DC-92FB-29E44AE7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585-B75A-4EEE-8EEE-5396612F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A1B-00CE-4073-911E-CAFEBB0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888-3E26-4F98-9625-D311A2F2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84C-000D-422B-949A-01779C2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733-55BD-48E3-A4FD-C4215F46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16A-DCCC-45A1-997B-B1CD1964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C18-9B28-4009-8728-E0AE114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381-DAD6-48B2-B3B5-F85D1CD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AEB2-742A-40A0-8035-208D2963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8428-F243-409C-92F0-0E68816F688A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mail Session 5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Advanced Options in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Jigsaw Activity in 3 group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General Op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Storage Spac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Auto Forward/ Repl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ithin the category your group is assigned, change each one of the specific settings. Don’t forget to save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oes each setting do?  How does it affect your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advantages/ disadvantages of each sett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1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neral Op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2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(Storage Space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3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(Auto Forward/ Reply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 are other options you can set in Write Mai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5867640" cy="288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6094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does each setting do? When would you use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Right Arrow 6"/>
          <p:cNvSpPr/>
          <p:nvPr/>
        </p:nvSpPr>
        <p:spPr>
          <a:xfrm rot="17899200">
            <a:off x="6861960" y="4489920"/>
            <a:ext cx="796680" cy="4842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Right Arrow 7"/>
          <p:cNvSpPr/>
          <p:nvPr/>
        </p:nvSpPr>
        <p:spPr>
          <a:xfrm rot="18024600">
            <a:off x="6183720" y="449208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Right Arrow 8"/>
          <p:cNvSpPr/>
          <p:nvPr/>
        </p:nvSpPr>
        <p:spPr>
          <a:xfrm rot="17937600">
            <a:off x="4941000" y="448380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Right Arrow 9"/>
          <p:cNvSpPr/>
          <p:nvPr/>
        </p:nvSpPr>
        <p:spPr>
          <a:xfrm rot="18235800">
            <a:off x="3911040" y="4489920"/>
            <a:ext cx="796680" cy="4842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you help others personalize their email settings to make the most sense for th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you help others customize their email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oday we will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ustomize our email sett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115320" cy="28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4" descr=""/>
          <p:cNvPicPr/>
          <p:nvPr/>
        </p:nvPicPr>
        <p:blipFill>
          <a:blip r:embed="rId2"/>
          <a:stretch/>
        </p:blipFill>
        <p:spPr>
          <a:xfrm>
            <a:off x="1219320" y="1933560"/>
            <a:ext cx="1057320" cy="2943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76320" y="2971800"/>
            <a:ext cx="1066680" cy="642600"/>
          </a:xfrm>
          <a:prstGeom prst="rect">
            <a:avLst/>
          </a:prstGeom>
          <a:solidFill>
            <a:srgbClr val="212164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Click Option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Right Arrow 6"/>
          <p:cNvSpPr/>
          <p:nvPr/>
        </p:nvSpPr>
        <p:spPr>
          <a:xfrm rot="2895600">
            <a:off x="604080" y="3795480"/>
            <a:ext cx="79560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010280" y="2286000"/>
            <a:ext cx="1828800" cy="338580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General Option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Use to set incoming &amp; outgoing mail preferences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Security Setting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Settings are already configured for NYC DO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5962680" cy="3971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6477120" y="1905120"/>
            <a:ext cx="2286000" cy="4391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Storage Space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t preferences for saving &amp; deleting messages (to maximize spac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Message Signature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esign your signature to include on outgoing mail (and set it to always be included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What information should your signature include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395280" y="1981080"/>
            <a:ext cx="6634080" cy="3400560"/>
            <a:chOff x="395280" y="1981080"/>
            <a:chExt cx="6634080" cy="3400560"/>
          </a:xfrm>
        </p:grpSpPr>
        <p:pic>
          <p:nvPicPr>
            <p:cNvPr id="117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981080"/>
              <a:ext cx="663408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456840" y="2438280"/>
              <a:ext cx="1600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Straight Connector 7"/>
            <p:cNvSpPr/>
            <p:nvPr/>
          </p:nvSpPr>
          <p:spPr>
            <a:xfrm flipH="1" flipV="1">
              <a:off x="456480" y="2666880"/>
              <a:ext cx="2438280" cy="1440"/>
            </a:xfrm>
            <a:prstGeom prst="line">
              <a:avLst/>
            </a:prstGeom>
            <a:ln w="9360">
              <a:solidFill>
                <a:srgbClr val="bdc5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sp>
        <p:nvSpPr>
          <p:cNvPr id="120" name="TextBox 3"/>
          <p:cNvSpPr/>
          <p:nvPr/>
        </p:nvSpPr>
        <p:spPr>
          <a:xfrm>
            <a:off x="6477120" y="1981080"/>
            <a:ext cx="2361960" cy="292860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Auto Forward /Reply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t preferences to automatically forward or reply to email. Why might you set these option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Advanced Option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0ece6"/>
                </a:solidFill>
                <a:latin typeface="Arial"/>
              </a:rPr>
              <a:t>(see descriptions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Bent Arrow 9"/>
          <p:cNvSpPr/>
          <p:nvPr/>
        </p:nvSpPr>
        <p:spPr>
          <a:xfrm rot="10800000">
            <a:off x="7924680" y="4723920"/>
            <a:ext cx="609840" cy="365400"/>
          </a:xfrm>
          <a:prstGeom prst="pi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et’s Change an Op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your Signatu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229680" indent="-2296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a hello email to your partner (include signature)- how does your signature loo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1025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734000" cy="280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26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162240" cy="65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27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542880" cy="228600"/>
          </a:xfrm>
          <a:prstGeom prst="rect">
            <a:avLst/>
          </a:prstGeom>
          <a:ln w="0">
            <a:noFill/>
          </a:ln>
        </p:spPr>
      </p:pic>
      <p:sp>
        <p:nvSpPr>
          <p:cNvPr id="127" name="Right Arrow 6"/>
          <p:cNvSpPr/>
          <p:nvPr/>
        </p:nvSpPr>
        <p:spPr>
          <a:xfrm rot="8917800">
            <a:off x="6392160" y="4209840"/>
            <a:ext cx="79524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Right Arrow 7"/>
          <p:cNvSpPr/>
          <p:nvPr/>
        </p:nvSpPr>
        <p:spPr>
          <a:xfrm rot="7870200">
            <a:off x="5684760" y="2120400"/>
            <a:ext cx="797040" cy="48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Right Arrow 8"/>
          <p:cNvSpPr/>
          <p:nvPr/>
        </p:nvSpPr>
        <p:spPr>
          <a:xfrm rot="1440600">
            <a:off x="891720" y="341784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76320" y="3048120"/>
            <a:ext cx="2361960" cy="368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Type your signatur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6553080" y="1828800"/>
            <a:ext cx="2362320" cy="119124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lect Rich Text Editor to change the appearance of your text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Right Arrow 11"/>
          <p:cNvSpPr/>
          <p:nvPr/>
        </p:nvSpPr>
        <p:spPr>
          <a:xfrm rot="8457000">
            <a:off x="2196720" y="385380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3124080" y="3200400"/>
            <a:ext cx="2362320" cy="119124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o you want to automatically insert your  signature on all outgoing mail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6248520" y="3657600"/>
            <a:ext cx="2514600" cy="368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on’t forget to save it!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8T21:44:11Z</dcterms:modified>
  <cp:revision>31</cp:revision>
  <dc:subject/>
  <dc:title>Workshop Title</dc:title>
</cp:coreProperties>
</file>